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7D9A-338C-480F-A7A4-0B786D6E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3C25-E91D-4FD8-979E-ED6F6A1D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FB9C-7E31-4584-BA4E-7546DE0F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FD96-8F66-4678-B834-C6101BBF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DDA2-293A-4D7F-AC16-9CFE69DA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B912-59C1-4AAE-B047-DE410DEC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0803-3F35-438D-8322-3C375624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E58B-FD25-4A04-B0AB-7F8947CF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1478-A7E4-4676-AA36-B6A75EFA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BC76-48AB-4C0A-B130-A17D82FC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172F-1ACB-41EA-8281-D0DAF632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898-1A31-4EA4-A7A7-1CC751A3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BC30-BB21-4E6E-A4E9-1B773D55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E207-535C-4CAB-BCFE-A89522C1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CF6F-4041-4CE8-A588-0D48EC69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16AE-189F-4244-87C7-CF9C403B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4D30-12E8-4C26-80C6-F59947B8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FDB69-5397-4431-A05A-920B7BEC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F93DD-F6FE-409A-8201-FDC3D994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4EDB7-2724-4F8B-A1D4-2CEE8E77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649F7-2B52-420F-A11C-87063DF4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85BB8-9CA5-4A33-A754-ED31C79F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111-ED8D-417F-974D-E0095973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E90F4-6644-41A1-B68F-B2245FCA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33AC1-8833-4BD9-AE23-C4D6260C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17A44-6573-406E-B15D-6677FE3F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B6705-9198-4000-850E-EFFB809A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1EFD9-1471-4A3C-A060-A14D897C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EBB1F-029E-484F-9A38-A995933D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978C1-7F5C-4B87-AA83-09258B17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C0B1C-A84C-4DE8-8B33-CD0DDA18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69A85-3EA1-4245-9681-48093DE5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AE09F-D372-4792-A62F-A9D27FA0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DB1C-AB97-40AD-A70E-9D8777B3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D0470-C969-4198-AE11-E448C110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4567E-56FA-4386-B3AB-9FAB16FB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7493F-1777-47BD-BB5A-85CF5FB1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24F04-3279-448A-836D-85DA8B60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1F772-E9C1-43CC-85E5-31440C80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67248-6FD3-4239-8582-5AC99407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2E0F7-AA9F-48B3-B780-233EF94D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29ED8-0F6B-4543-9598-60CDAFD7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D74B9-7506-4DA3-80A6-633B6A9B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DB0E-2D55-4178-A168-2C48414D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9A8-F256-4CBC-8D52-5AC1A025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6C70-5CB2-49C8-A4FD-05DF712A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B7C-52A0-4DC9-9651-5FF2A687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50A5-FFEC-46DD-9A8F-B3D8352A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0808-4469-47C3-AB78-7422D6141856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BEA6-B053-4DAC-8237-57656B8E8B6D}" type="slidenum">
              <a:rPr b="0" lang="en-GB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5847-9EFB-46F2-BFB4-7B26E4E5A0BB}" type="slidenum">
              <a:rPr b="0" lang="en-GB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1135-63E0-4E3A-8722-DD86ACF0AE78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" descr=""/>
          <p:cNvPicPr/>
          <p:nvPr/>
        </p:nvPicPr>
        <p:blipFill>
          <a:blip r:embed="rId1"/>
          <a:stretch/>
        </p:blipFill>
        <p:spPr>
          <a:xfrm>
            <a:off x="0" y="2184480"/>
            <a:ext cx="91440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1"/>
          <a:stretch/>
        </p:blipFill>
        <p:spPr>
          <a:xfrm>
            <a:off x="0" y="1041480"/>
            <a:ext cx="91440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0" y="1015920"/>
            <a:ext cx="91440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0" y="812880"/>
            <a:ext cx="91440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0" y="1282680"/>
            <a:ext cx="9144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0" y="1930320"/>
            <a:ext cx="9144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0:51:02Z</dcterms:created>
  <dc:creator>C Duffy</dc:creator>
  <dc:description/>
  <dc:language>en-US</dc:language>
  <cp:lastModifiedBy>C Duffy</cp:lastModifiedBy>
  <cp:lastPrinted>2012-03-26T10:58:22Z</cp:lastPrinted>
  <dcterms:modified xsi:type="dcterms:W3CDTF">2012-03-26T12:07:03Z</dcterms:modified>
  <cp:revision>6</cp:revision>
  <dc:subject/>
  <dc:title>Help with Synoptic Questions</dc:title>
</cp:coreProperties>
</file>