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EE71-6DDE-485A-9D88-8CFFC414B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5951-D4AE-4290-B369-2A5ABC4D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27AF-1A9D-4A54-8D6C-E04DF4B8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D47E-E373-48B0-A3C8-9D70F64C1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7E251-20A6-4755-BD56-F46E3A140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ECA39-0CE2-4DFA-A17E-50FFCA472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0E8D-3B87-4534-A90B-0DF3B10C4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AF499-488A-459C-AB46-41E8C7C67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C8F1A-9284-433D-A53E-08A21C7B2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60325-1995-4F7D-B40B-C8171CAAA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67E0-D0A4-4880-ADB9-D6E84FAA8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7B4-1FE8-4D8A-9D84-368085FCA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CBC08-0071-491C-83BA-B616253D8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EFFA1-E845-434C-9C5E-166693B2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5B598-9791-4053-8A46-8CFFD5CE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E2F1F-7422-4E9C-92EA-7B26D3009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1EE7-682F-493E-B837-86DF49D3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23338-74B9-47FB-8BE9-EFBF4786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F21D5-57EC-4F2F-8AF5-DEEBCB94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FCD74E-A2A4-4F6A-A489-375B1633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1DB24E-20D6-4221-BE9E-2C12D7DFA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4016C-A3A0-4B53-8FFD-FD21DB70E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2D89-E1FB-465F-A5F2-8AC02695A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CF0D4-4794-4D77-A6A2-78A67242F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744DF-1456-4CBD-A1CA-367FA661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05DAB-B8BA-4668-9654-4A0030FC4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D3024-3BED-4631-A6C3-862DC018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0B7FE-3FDB-4DA9-B5C6-3709F3C21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648DA-A609-4FAD-AC6F-95E302232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E1AC06-C3FB-4CA4-B312-3E41F2088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A69FA-43FE-44C5-B4FF-26335822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BCFC5-CDE4-456A-82BB-7EDEDA6BC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B0239-BDE4-486A-9F36-3C8498143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CDF-23A2-4FF8-BC30-B5374C1D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F4608-8BDA-4AA3-9B9F-051433B99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A5E53B-2E38-496A-9D96-087C0273F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EC531-73C6-4BEE-960A-570AF7059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E76AC1-775B-48B7-B3A2-6D9D12310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9BDD7-71EC-4AE2-87E7-26D37828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63D41-78F3-4893-91F7-7F52DAB75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1D4A4-20FC-474F-8D36-F652D5E99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B7A51-789B-4700-AD81-86A1D4EA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8E591C-559B-44C5-B066-D46561727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A99-52E5-4BF9-8821-7164B3C9D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C414E-7565-44DE-8BDB-6A33444D1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276B-0B0E-4CB7-B1D7-9E005FDE3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69C0-3337-47B9-86DF-CA575DD5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5ADB-0287-4F86-B73D-DA32D1297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CD9B2-D52A-46F2-89B2-ECC159F7D33F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3A70-768A-4CFC-89A2-04CC9819BA48}" type="slidenum">
              <a:rPr b="0" lang="en-GB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62A96-6B13-48A6-B69D-3EDA09911B56}" type="slidenum">
              <a:rPr b="0" lang="en-GB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5E85-C05A-4E89-BC81-E76C5DBAA818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"/>
          <p:cNvPicPr/>
          <p:nvPr/>
        </p:nvPicPr>
        <p:blipFill>
          <a:blip r:embed="rId1"/>
          <a:stretch/>
        </p:blipFill>
        <p:spPr>
          <a:xfrm>
            <a:off x="0" y="2184480"/>
            <a:ext cx="91440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1"/>
          <a:stretch/>
        </p:blipFill>
        <p:spPr>
          <a:xfrm>
            <a:off x="0" y="104148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0" y="1015920"/>
            <a:ext cx="9144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0" y="128268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0" y="1930320"/>
            <a:ext cx="9144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0:51:02Z</dcterms:created>
  <dc:creator>C Duffy</dc:creator>
  <dc:description/>
  <dc:language>en-US</dc:language>
  <cp:lastModifiedBy>C Duffy</cp:lastModifiedBy>
  <cp:lastPrinted>2012-03-26T10:58:22Z</cp:lastPrinted>
  <dcterms:modified xsi:type="dcterms:W3CDTF">2012-03-26T12:07:03Z</dcterms:modified>
  <cp:revision>6</cp:revision>
  <dc:subject/>
  <dc:title>Help with Synoptic Questions</dc:title>
</cp:coreProperties>
</file>