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973-55C2-4143-92AD-5DFF837A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E09-8E6F-4241-A456-2B8708AB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735-33A2-452B-83C6-881EA8CA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5B8-47C2-45CE-9324-89407488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4CED-CC26-4015-97EA-DFB69807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D027-821A-4134-AEC6-CAB70EC5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8652-EFC0-4B0D-987F-987917AA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DA6D-BEC1-48B6-9A86-CDC242BA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9F57-796B-4ACA-A71D-A9EBD6BF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352-5119-4414-9A09-689B50BE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095F-0ED0-40E1-923E-5800A5F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C59-5BEB-4B8D-8E24-D9FB31B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DE68-CFEA-47F3-8C30-1E3A2746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CB0E-2216-4669-85E8-2C4F041B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4831-9EB5-4731-866B-3A355A1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1E5B-C1EB-4CFD-BCE5-A8495208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4431-0B22-4041-AE28-E3E51576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CD09-81DD-4F24-9E0B-1183AA4E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7A45-292F-4E96-9434-61B25E46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3671-AA38-4CC8-B098-BC10273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7A1D-4DD3-41AF-AA9F-2DB1CAA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07AA-34C9-40FA-9D69-B5AD903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C9B-7253-4188-8EDD-7B5BFAA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1390-04D4-4A10-85E0-C173178C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77C4-DBA8-47E1-A690-E49B6D3F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41C9-A02F-4F38-A9ED-26038054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B2253-A534-40DE-A3F7-8416324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8A1E-DE28-461F-BEAA-0D86077C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FFF8-C705-4853-A729-7E5DCE36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9964-FA2F-41E7-B6D4-AB72A2E0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F461-3F45-4805-BE10-B26F75BD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90E8-644D-4588-84A8-B4A66CC1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60E45-3006-41A0-8200-A545803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A7F-F242-4FCB-8493-A99115A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9DAC-3863-4D7C-9E8C-D45DF8E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B091-47B7-4BB7-A61B-36BFBDD2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B6005-E0B7-403C-BF18-ECFD3D7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59395-2E0D-4CA4-8C5A-E5ABB73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4780-DE4A-4248-86CA-7F34026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83E5-9D1C-4055-9697-5A6C500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F8FD3-F184-4BA9-8374-D5E57BE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E1FB-D25F-4947-A490-7EE33329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95EA-45AD-4C6B-BDC8-1EEAB8A4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2D2-1077-4FF7-B1C9-56C4E93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B6C-BAA8-47BF-8D99-735CE954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03E-F2CB-4B5C-8700-F5AE456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2C7-74E7-4F2E-A9D5-8B40B38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736-1FAD-4098-9FEB-28724C0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F9B3-7535-4789-A260-A414B6E1E1D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6CF-E120-4B6E-B774-00D79F34009D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C072-50B0-4FA2-86F6-36ECEBF9BAEE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CB6A-DBA2-4D66-8C6B-FA3AEC7FE9D0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0:51:02Z</dcterms:created>
  <dc:creator>C Duffy</dc:creator>
  <dc:description/>
  <dc:language>en-US</dc:language>
  <cp:lastModifiedBy>C Duffy</cp:lastModifiedBy>
  <cp:lastPrinted>2012-03-26T10:58:22Z</cp:lastPrinted>
  <dcterms:modified xsi:type="dcterms:W3CDTF">2012-03-26T12:07:03Z</dcterms:modified>
  <cp:revision>6</cp:revision>
  <dc:subject/>
  <dc:title>Help with Synoptic Questions</dc:title>
</cp:coreProperties>
</file>