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04190-FAD7-40B9-A347-2A07F0798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F3E2D-BE1C-4031-9BCB-5FF23FB5B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38D5D-421E-47D9-AABD-633F141C3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E4EE4-F156-4B65-8AED-DB95DE2FF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C8E55-8481-4248-B36C-1355A8BE6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B37AC-8420-4F79-BED9-D289DD697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827C9-168F-4212-8B74-134B5092D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71833-DD8D-43EA-A17A-6812D897C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C81C1-E522-4966-BFCB-C64645A8D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C65C9-C26F-42DB-B131-20FC011BB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C7FE9-CBF2-4822-93EB-870B5B631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845F6-2C57-45C6-96AF-40370ED14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984E0-2424-4AB4-A4D2-13CEF5337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0A5C5-3C4F-4419-8411-A201465DB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0BC0F-6561-42D6-91F3-EC1E81848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84EB2-20DB-4103-8FD8-887A1ED84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4C20A-F97A-46ED-8A8B-B48773977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1C960C-E38F-4176-A591-0EE18D12E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78AA86-6994-4D09-A447-DC939582C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050657-A668-4B90-BF8F-7FB678068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02D34F-6B9F-433B-951E-D72145DBD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722C7D-CDDE-4919-98F0-0F1C307B7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B7E1D-B2F9-4C15-AFDA-C186AD94F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FED559-F594-491C-846C-F726D5F5D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66948A-0278-49AB-8D48-FC4B60452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546280-5D2B-457C-BE85-0FF7FFDB4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667C67-596F-4AB5-93E8-5DE278F3A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9DC1D7-3E39-4C17-AD32-33018DE07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549418-5DB2-48B5-9BE1-AC2A9A7D7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B620EB-E4CE-463D-A9AD-2C49BE628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6EDC13-57F6-44AB-9CDC-3E35BE1E2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35305D-16F3-4E3B-B4C1-41E2073A7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99139D-56F8-4F78-940C-827E5DD55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36C03-D945-4984-84E8-37D954F3A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54AA70-AAAF-43F3-9FD0-C1A73AEDB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D813E0-57D2-4E86-9419-8DDE4BEF8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7E268F-5197-4D8A-ACC9-199284D1E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FD2726-3A03-4515-AD5C-6DB994329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14B26E-0E16-4667-A41E-04E03637B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F143F1-A451-45EE-99EB-5A8AF09AD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779D00-5E89-435D-8C15-CE0311CC7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D367BB-D32A-4218-88C8-FB680DA3C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623378-919B-441C-B795-E82D8986E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46AB8-D926-49BF-B872-778B7B9B9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1DD30-BB1E-4080-ADAE-DB2A5BCB2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253D1-9F16-4A48-897A-BE8D60FE1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B56BC-168C-403E-8954-17BCCFD45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81281-DE25-4ACD-87A7-AF09B6578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45c75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45c75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45c75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6D2F6-4768-4105-A83C-F2A0B97F8131}" type="slidenum">
              <a:rPr b="0" lang="en-GB" sz="1200" spc="-1" strike="noStrike">
                <a:solidFill>
                  <a:srgbClr val="045c75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1eaee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d1eaee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1eaee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14E32-32A7-44C7-8058-6574662B523E}" type="slidenum">
              <a:rPr b="0" lang="en-GB" sz="1200" spc="-1" strike="noStrike">
                <a:solidFill>
                  <a:srgbClr val="d1eaee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1eaee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d1eaee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1eaee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00ACB-A6D6-473B-965A-A5609800E1CD}" type="slidenum">
              <a:rPr b="0" lang="en-GB" sz="1200" spc="-1" strike="noStrike">
                <a:solidFill>
                  <a:srgbClr val="d1eaee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45c75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45c75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45c75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D942A-4DC8-4023-B5C0-89F2D5B91C7D}" type="slidenum">
              <a:rPr b="0" lang="en-GB" sz="1200" spc="-1" strike="noStrike">
                <a:solidFill>
                  <a:srgbClr val="045c75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1" descr=""/>
          <p:cNvPicPr/>
          <p:nvPr/>
        </p:nvPicPr>
        <p:blipFill>
          <a:blip r:embed="rId1"/>
          <a:stretch/>
        </p:blipFill>
        <p:spPr>
          <a:xfrm>
            <a:off x="0" y="2184480"/>
            <a:ext cx="9144000" cy="248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1" descr=""/>
          <p:cNvPicPr/>
          <p:nvPr/>
        </p:nvPicPr>
        <p:blipFill>
          <a:blip r:embed="rId1"/>
          <a:stretch/>
        </p:blipFill>
        <p:spPr>
          <a:xfrm>
            <a:off x="0" y="1041480"/>
            <a:ext cx="9144000" cy="47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1" descr=""/>
          <p:cNvPicPr/>
          <p:nvPr/>
        </p:nvPicPr>
        <p:blipFill>
          <a:blip r:embed="rId1"/>
          <a:stretch/>
        </p:blipFill>
        <p:spPr>
          <a:xfrm>
            <a:off x="0" y="2362320"/>
            <a:ext cx="9144000" cy="21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1" descr=""/>
          <p:cNvPicPr/>
          <p:nvPr/>
        </p:nvPicPr>
        <p:blipFill>
          <a:blip r:embed="rId1"/>
          <a:stretch/>
        </p:blipFill>
        <p:spPr>
          <a:xfrm>
            <a:off x="0" y="1015920"/>
            <a:ext cx="9144000" cy="48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1" descr=""/>
          <p:cNvPicPr/>
          <p:nvPr/>
        </p:nvPicPr>
        <p:blipFill>
          <a:blip r:embed="rId1"/>
          <a:stretch/>
        </p:blipFill>
        <p:spPr>
          <a:xfrm>
            <a:off x="0" y="812880"/>
            <a:ext cx="9144000" cy="523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1" descr=""/>
          <p:cNvPicPr/>
          <p:nvPr/>
        </p:nvPicPr>
        <p:blipFill>
          <a:blip r:embed="rId1"/>
          <a:stretch/>
        </p:blipFill>
        <p:spPr>
          <a:xfrm>
            <a:off x="0" y="444600"/>
            <a:ext cx="9144000" cy="59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1" descr=""/>
          <p:cNvPicPr/>
          <p:nvPr/>
        </p:nvPicPr>
        <p:blipFill>
          <a:blip r:embed="rId1"/>
          <a:stretch/>
        </p:blipFill>
        <p:spPr>
          <a:xfrm>
            <a:off x="0" y="1676520"/>
            <a:ext cx="914400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1" descr=""/>
          <p:cNvPicPr/>
          <p:nvPr/>
        </p:nvPicPr>
        <p:blipFill>
          <a:blip r:embed="rId1"/>
          <a:stretch/>
        </p:blipFill>
        <p:spPr>
          <a:xfrm>
            <a:off x="0" y="1282680"/>
            <a:ext cx="9144000" cy="42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1" descr=""/>
          <p:cNvPicPr/>
          <p:nvPr/>
        </p:nvPicPr>
        <p:blipFill>
          <a:blip r:embed="rId1"/>
          <a:stretch/>
        </p:blipFill>
        <p:spPr>
          <a:xfrm>
            <a:off x="0" y="1930320"/>
            <a:ext cx="9144000" cy="29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1" descr=""/>
          <p:cNvPicPr/>
          <p:nvPr/>
        </p:nvPicPr>
        <p:blipFill>
          <a:blip r:embed="rId1"/>
          <a:stretch/>
        </p:blipFill>
        <p:spPr>
          <a:xfrm>
            <a:off x="0" y="482760"/>
            <a:ext cx="9144000" cy="58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1" descr=""/>
          <p:cNvPicPr/>
          <p:nvPr/>
        </p:nvPicPr>
        <p:blipFill>
          <a:blip r:embed="rId1"/>
          <a:stretch/>
        </p:blipFill>
        <p:spPr>
          <a:xfrm>
            <a:off x="0" y="482760"/>
            <a:ext cx="9144000" cy="58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6T10:51:02Z</dcterms:created>
  <dc:creator>C Duffy</dc:creator>
  <dc:description/>
  <dc:language>en-US</dc:language>
  <cp:lastModifiedBy>C Duffy</cp:lastModifiedBy>
  <cp:lastPrinted>2012-03-26T10:58:22Z</cp:lastPrinted>
  <dcterms:modified xsi:type="dcterms:W3CDTF">2012-03-26T12:07:03Z</dcterms:modified>
  <cp:revision>6</cp:revision>
  <dc:subject/>
  <dc:title>Help with Synoptic Questions</dc:title>
</cp:coreProperties>
</file>