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CA6F-83B4-420B-BCA0-0EDBF8B4D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C0CF-FC84-4DEA-81BF-4FC297DB7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46C0-0448-43F6-822A-8A33F0395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6785-C950-4BD1-921B-1BCABB99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CF6EE-5188-4086-8033-EF39E5F71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A653-D507-47B0-B9C8-8B706C21F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6CA0A-2DD9-4DAB-B60D-D9C611158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943ED-658D-4824-8503-9351BDC21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C66B2-EC0F-4ADE-9401-D5489EC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FB249-40AC-432D-A4A8-A88EE676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EA434-B731-4D97-833D-60609113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F5097-A1EB-4234-BD3C-6AECFCD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D0D37-8A24-48BC-A39E-04F9EF57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1764-2032-45DD-8B51-E33C257C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FA74-783A-4142-B72F-F7BCB915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9ECDE-55E8-4C45-849F-84A905657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9425F-98DD-4A64-908F-E453AB877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E7D6C-A7A4-4EBF-B0D6-342D72746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94A66B-496F-469A-AA50-6AF035ED9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854DBD-2F1C-47D3-A33D-84A9A3EC2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E512F-EFA5-4317-B333-6EC12182B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2C109F-13CA-485E-B92D-B2234D222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7741-AD7A-4058-93E0-B64847BF7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BDBED-DE28-4374-9D3E-EF02B8AD0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EB25E-94B9-45DC-BD32-C42E7F87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3291C2-6FEB-439A-8F23-DDFE3154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4CB935-70C4-4656-8B08-FE01FFD55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1955FE-96F3-4B5A-80C5-0641670EF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8C315-48F7-494B-87D1-E81A75AC8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3E31F-8BC5-4BA4-9D85-127BF7D83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3B556D-ADEE-4E9D-82FB-5C49BAAC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BB0A2-57B9-4B50-8CE8-DE1598CE5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3EBA9-48B0-4F89-B2D1-45FF19E7F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BE99-4F65-4044-BC2D-76E18A9D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1A441-9152-438C-B545-58A9E34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1F8A4-36E5-42A0-8934-B78908DCF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977DDE-2703-414D-B5B5-0CAE10BB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C2499C-E69B-4486-B344-44BADD269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D011-01DF-4024-8E22-2F5D91EB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91185-3E73-4685-9ABB-C7AF9D27A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2B9919-2D4C-4027-A0C8-60DA17BB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441856-BD91-44EB-AB33-5C44EAE3D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CD3B72-E8D9-4774-8961-698E00AA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88F9-7549-49FD-81DE-DD7EAE879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1BA4-C0DD-4191-B515-5918913C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9F29-8F19-4E68-A7BF-48897A2A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4354-E213-4A9E-9313-788B41D8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4A3B-34B2-48D1-9C15-7225217C6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CF2AA-4101-4761-BD57-A5B7CD356802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39419-7BE7-4870-81DE-621816A06629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d1eaee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d1eaee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B665-3A04-4FF8-9C92-C6D1E8ECBC51}" type="slidenum">
              <a:rPr b="0" lang="en-GB" sz="1200" spc="-1" strike="noStrike">
                <a:solidFill>
                  <a:srgbClr val="d1eaee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19949-AB78-4A6F-ACF6-CEC3A2BFB5AF}" type="slidenum">
              <a:rPr b="0" lang="en-GB" sz="1200" spc="-1" strike="noStrike">
                <a:solidFill>
                  <a:srgbClr val="045c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1" descr=""/>
          <p:cNvPicPr/>
          <p:nvPr/>
        </p:nvPicPr>
        <p:blipFill>
          <a:blip r:embed="rId1"/>
          <a:stretch/>
        </p:blipFill>
        <p:spPr>
          <a:xfrm>
            <a:off x="0" y="2184480"/>
            <a:ext cx="9144000" cy="24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1" descr="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1" descr=""/>
          <p:cNvPicPr/>
          <p:nvPr/>
        </p:nvPicPr>
        <p:blipFill>
          <a:blip r:embed="rId1"/>
          <a:stretch/>
        </p:blipFill>
        <p:spPr>
          <a:xfrm>
            <a:off x="0" y="2362320"/>
            <a:ext cx="91440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1" descr=""/>
          <p:cNvPicPr/>
          <p:nvPr/>
        </p:nvPicPr>
        <p:blipFill>
          <a:blip r:embed="rId1"/>
          <a:stretch/>
        </p:blipFill>
        <p:spPr>
          <a:xfrm>
            <a:off x="0" y="1015920"/>
            <a:ext cx="914400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1" descr=""/>
          <p:cNvPicPr/>
          <p:nvPr/>
        </p:nvPicPr>
        <p:blipFill>
          <a:blip r:embed="rId1"/>
          <a:stretch/>
        </p:blipFill>
        <p:spPr>
          <a:xfrm>
            <a:off x="0" y="812880"/>
            <a:ext cx="9144000" cy="52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" descr=""/>
          <p:cNvPicPr/>
          <p:nvPr/>
        </p:nvPicPr>
        <p:blipFill>
          <a:blip r:embed="rId1"/>
          <a:stretch/>
        </p:blipFill>
        <p:spPr>
          <a:xfrm>
            <a:off x="0" y="1676520"/>
            <a:ext cx="914400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1" descr=""/>
          <p:cNvPicPr/>
          <p:nvPr/>
        </p:nvPicPr>
        <p:blipFill>
          <a:blip r:embed="rId1"/>
          <a:stretch/>
        </p:blipFill>
        <p:spPr>
          <a:xfrm>
            <a:off x="0" y="1282680"/>
            <a:ext cx="91440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" descr=""/>
          <p:cNvPicPr/>
          <p:nvPr/>
        </p:nvPicPr>
        <p:blipFill>
          <a:blip r:embed="rId1"/>
          <a:stretch/>
        </p:blipFill>
        <p:spPr>
          <a:xfrm>
            <a:off x="0" y="1930320"/>
            <a:ext cx="914400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58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10:51:02Z</dcterms:created>
  <dc:creator>C Duffy</dc:creator>
  <dc:description/>
  <dc:language>en-US</dc:language>
  <cp:lastModifiedBy>C Duffy</cp:lastModifiedBy>
  <cp:lastPrinted>2012-03-26T10:58:22Z</cp:lastPrinted>
  <dcterms:modified xsi:type="dcterms:W3CDTF">2012-03-26T12:07:03Z</dcterms:modified>
  <cp:revision>6</cp:revision>
  <dc:subject/>
  <dc:title>Help with Synoptic Questions</dc:title>
</cp:coreProperties>
</file>